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A3166-F970-4EB7-9C44-6B19F250F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D39F-210B-4332-9422-E48D60157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43D8B-5D80-42CD-88C2-4F4B11DEA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9D190-898D-4455-8DAF-88F6D8380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6A2B6-E4AC-42A8-8CF2-A49D8646A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ED595-F686-45DE-BCEF-62A109E04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F50F9-F9A1-4C0F-B2F5-D5877F8C9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71580-31FC-416E-9EF0-F66FDBDF3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05CED-8154-467E-B6C6-B6BF1F346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CB3A6-E841-4B6E-85C2-5369D2483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F5D63-3EEA-4047-97B0-B16681542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5BF1F-4C02-40A2-A8F2-3590099A9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683A1-F833-41A9-B4F4-F0F52C52A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E7238-F00E-4491-AE96-1802F27D5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FB914-37D6-486D-AD0E-617573BDC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5CCD7-FD34-4A35-9B9E-6B8FA8F2E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F4F6E-8A91-4E0D-BD9F-DD3F9A538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65B0A-3216-4B11-B893-4810A54B1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A97C1-6403-4088-941D-CED80F3AA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0D3D0-79ED-4726-8A35-57CC878A9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6E69-4FD1-4F06-98EA-230CBC388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91170-F3C3-4825-9EA6-3B274847E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DBEC-CFA2-49B9-BBED-E44FDC554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BC135-269D-43C5-B1FB-66BB1D5C2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DC13-6FA9-4D47-8C40-B5FA534B4A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77FA-8831-47ED-9B04-EC2BB8232B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36640"/>
            <a:ext cx="7772400" cy="19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Skills and Techniques</a:t>
            </a:r>
            <a:br>
              <a:rPr sz="4400"/>
            </a:br>
            <a:br>
              <a:rPr sz="4400"/>
            </a:b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Lesson 5</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Monday 21</a:t>
            </a:r>
            <a:r>
              <a:rPr b="0" lang="en-GB" sz="4000" spc="-1" strike="noStrike" baseline="30000">
                <a:solidFill>
                  <a:srgbClr val="ffffff"/>
                </a:solidFill>
                <a:latin typeface="Comic Sans MS"/>
              </a:rPr>
              <a:t>st</a:t>
            </a:r>
            <a:r>
              <a:rPr b="0" lang="en-GB" sz="4000" spc="-1" strike="noStrike">
                <a:solidFill>
                  <a:srgbClr val="ffffff"/>
                </a:solidFill>
                <a:latin typeface="Comic Sans MS"/>
              </a:rPr>
              <a:t> Septembe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Skills and Techniques</a:t>
            </a:r>
            <a:endParaRPr b="0" lang="en-US" sz="4400" spc="-1" strike="noStrike">
              <a:solidFill>
                <a:srgbClr val="ffffff"/>
              </a:solidFill>
              <a:latin typeface="Arial"/>
            </a:endParaRPr>
          </a:p>
        </p:txBody>
      </p:sp>
      <p:pic>
        <p:nvPicPr>
          <p:cNvPr id="165"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620280"/>
            <a:ext cx="8229600" cy="597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Analysis of movement analysis resul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vement analysis schedule showed that I always start from base and move to where the shuttle was to be played from. This gave me the best chance possible to successfully play the shot as I was in the correct position on cour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I did not always turn side-on to the net and so could not always transfer my weight from my back to my front foot. This affected my performance as I could not hit the shuttle with very much power. It meant that the shuttle often went to the front of the court and so my opponent could return with attacking shots and dominate the rally, winning the majority of poi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Question 5</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ructure of answer</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pening sentence (reword the question and introduce answer)</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give definition)</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o</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aracteristics – what is good about them / automatic players</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nefits of using a model performer</a:t>
            </a:r>
            <a:endParaRPr b="0" lang="en-US" sz="2800" spc="-1" strike="noStrike">
              <a:solidFill>
                <a:srgbClr val="ffffff"/>
              </a:solidFill>
              <a:latin typeface="Arial"/>
            </a:endParaRPr>
          </a:p>
          <a:p>
            <a:pPr marL="343080" indent="-343080">
              <a:lnSpc>
                <a:spcPct val="8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nerally completed well by the major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Question 6</a:t>
            </a:r>
            <a:endParaRPr b="0" lang="en-US" sz="2400" spc="-1" strike="noStrike">
              <a:solidFill>
                <a:srgbClr val="ffffff"/>
              </a:solidFill>
              <a:latin typeface="Arial"/>
            </a:endParaRPr>
          </a:p>
          <a:p>
            <a:pPr marL="343080" indent="-343080">
              <a:lnSpc>
                <a:spcPct val="90000"/>
              </a:lnSpc>
              <a:spcBef>
                <a:spcPts val="601"/>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ructure of answer</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ening sentence</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are the stages?</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does each mean for a player of that level?</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practices can be used?</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level are you at?</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w that there is an increase in pressure gradually throughout</a:t>
            </a:r>
            <a:endParaRPr b="0" lang="en-US" sz="2400" spc="-1" strike="noStrike">
              <a:solidFill>
                <a:srgbClr val="ffffff"/>
              </a:solidFill>
              <a:latin typeface="Arial"/>
            </a:endParaRPr>
          </a:p>
          <a:p>
            <a:pPr marL="343080" indent="-343080">
              <a:lnSpc>
                <a:spcPct val="9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y are the practices you have stated useful for that stage of lear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Arial"/>
              </a:rPr>
              <a:t>Question 7</a:t>
            </a:r>
            <a:endParaRPr b="0" lang="en-US" sz="3200" spc="-1" strike="noStrike">
              <a:solidFill>
                <a:srgbClr val="ffffff"/>
              </a:solidFill>
              <a:latin typeface="Arial"/>
            </a:endParaRPr>
          </a:p>
          <a:p>
            <a:pPr marL="343080" indent="-343080">
              <a:spcBef>
                <a:spcPts val="799"/>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ructure of answer</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have model performer helped you design a relevant training programme?</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have the stages of learning helped you design a relevant training program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odel performer:</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performances gave me a target to achieve</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allowed me to identify areas for improvement</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 was able to look at the fine detail of the skill to ensure I knew what was involved</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 she motivated me to improv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 she helped to create a training programme that would allow me to improve my skill by using their expertis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NAB part 2 analysis</a:t>
            </a:r>
            <a:endParaRPr b="0" lang="en-US" sz="44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ges of learning:</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 was able to identify my stage of learning (state what it is) and create a programme to suit my need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nowing my stage of learning helped to select appropriate practices that would suit my ability (state what practices you will use in your programme)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Knowing my stage of learning helped me decide how much pressure I should be working under – give an example, I am at the cognitive stage of learning therefore I have little pressure appli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0:59:34Z</dcterms:created>
  <dc:creator>FlemingC1</dc:creator>
  <dc:description/>
  <dc:language>en-US</dc:language>
  <cp:lastModifiedBy>FlemingC1</cp:lastModifiedBy>
  <dcterms:modified xsi:type="dcterms:W3CDTF">2009-09-21T11:11:57Z</dcterms:modified>
  <cp:revision>2</cp:revision>
  <dc:subject/>
  <dc:title>Skills and Techniques  N.A.B part 2 analysis</dc:title>
</cp:coreProperties>
</file>